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086F-85AE-4124-9917-137B81B4BCA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1879-2A46-4C33-AF7B-48ACDCA2EFF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CC57-68E2-4BA0-942F-0FBEE07BC4B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FDB5-A48C-4B04-9508-7AFF92F19C1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BF25-4202-4D6B-9952-A5FBF55428E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1C0F-2955-4343-A249-B045E831083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A1DF-F06D-4F87-969B-DCB14A2B815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42BA-BD49-4954-99AA-921C8BC6938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4C46-7FAE-46A8-93B8-0872A3BBD1E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9A55-0AD8-4549-B3D6-FB6EF20534F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55BA-A4E0-4307-9A48-B643D9DD511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C3DF-8E87-4853-8961-39B7955C591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CCD8-EDAF-44B8-B9C8-C76896B3195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2F6F-5D15-4FC7-A33A-144B31EBE11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CDFB-B49A-4C3E-AA81-752FC4B5D47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7FA4-266A-48C3-A300-FDF7D65D6E3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98EF-C09D-48E1-AF8D-639C8A45E10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A09F-E542-46B2-BBA4-7CE11383F17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3EEA-158C-48A9-8269-0DD40B83899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6CAB-D736-4511-B435-A3F3A4F8F83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F2A4-6BDC-46B9-B17F-4B5659BA7C7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3E0E-0EA5-4C52-A5FE-8996A75E74B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6C59-EBE4-4B84-B6DA-4EA6A70F8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3E20-BF8B-4230-8B27-E3CAFC75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A458-6531-461A-B79D-F3E17D5C3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E025-EC0E-4E88-B054-C830D307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8BDE-657F-4900-B2F3-399D5B9B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B8F1-2127-4115-B6CA-F96B62ED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9658-8331-4655-BC81-5C716CAC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A675-AE61-422D-B329-0FFD9C8C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368B-F579-483B-8F4D-AF922FA7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17C8-1BB5-4628-AE04-DAAFD5EB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67FF-683E-496B-85E2-B966FBAC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484C-FFAC-462A-8A2E-7D63C115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AD81-E5CA-4CA1-B5D9-75D4BA539D81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春节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hūnjié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중국 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问好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wènhǎo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안부를 묻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父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ùmǔ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부모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赶快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gǎnkuài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어서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빨리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寒假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hánjià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겨울방학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旅游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ǚyó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여행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新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īnniá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새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过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uò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보내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得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조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开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āixī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기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时候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ího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快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uà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곧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对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du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에 대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非常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502320"/>
            <a:ext cx="6264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fēicháng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매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到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à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4865400"/>
            <a:ext cx="638172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시간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기간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날짜가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되다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打算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ǎsua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할 계획이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中国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6452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Zhōnggu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중국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ē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와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과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家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āré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가족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过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guòniá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설을 쇠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那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à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그러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00:39:43Z</dcterms:created>
  <dc:creator>System</dc:creator>
  <dc:description/>
  <dc:language>en-US</dc:language>
  <cp:lastModifiedBy>System</cp:lastModifiedBy>
  <dcterms:modified xsi:type="dcterms:W3CDTF">2014-01-27T01:19:55Z</dcterms:modified>
  <cp:revision>5</cp:revision>
  <dc:subject/>
  <dc:title>슬라이드 1</dc:title>
</cp:coreProperties>
</file>